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C7E4-7394-4FA3-8346-1C5CD4FD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AC3C-249A-4CD4-8067-8EB49570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4D82-94A2-4A84-A67C-BF4D7B180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963-07D3-407D-83BB-E35D17D6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B50-78DA-4708-A781-7533C44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D7C-E81F-4AB1-83F3-3944CF7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C13-FBEB-4ABA-9C50-745B975D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421-3238-4CB5-AAE3-581E7EB9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469-024F-442A-8199-46D57DCD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8AF-B829-40D2-AFAA-E3A7468C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D71-625F-4E1C-A653-6133AE71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4AF-1E00-4F0D-98E6-8E38E75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CD6-0866-4A27-957A-DF86822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13B-3105-43EA-8A2E-3868913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51A-1A25-4BD6-A752-2662685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FCA2-E7A4-494A-97B0-05B6BB52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Switches - Cisco Nexus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32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64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898800" y="3486240"/>
            <a:ext cx="134640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PQ-1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172TQ-10GT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548P-10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726000" y="884160"/>
            <a:ext cx="1692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16Q-40G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48T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PQ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3K-C3064TQ-10GT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98800" y="3543480"/>
            <a:ext cx="134640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4-06-05T22:51:22Z</dcterms:modified>
  <cp:revision>5</cp:revision>
  <dc:subject/>
  <dc:title>Slide 1</dc:title>
</cp:coreProperties>
</file>