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B09B-CD64-47EF-804A-9930A711D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BD99-7479-4FF7-A3CE-26032B4B5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3689-42BA-4D42-8F74-5A47229C9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625-43F6-4328-AD81-BAD3CF69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96D-0107-476A-8550-0B7E515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981-8104-45AA-82E5-6906A4A6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FD2-3C8C-4700-ACD2-5F806245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988-4040-4D8F-918D-ED6806B0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FF1-1321-4F12-AC68-2EC168B6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2E5E-A26B-4BF6-B0A8-CEF5426D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202-765E-45D9-9FD0-049E125A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B92-2768-461A-BB3F-3E31BA36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885A-5D64-4BE6-8663-5EC01BC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3BE-DBE3-4E17-B613-963035CB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F82-5EB2-465D-93AF-3C58E45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52FB-EFEE-4993-BBC9-45C6BCD9A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32448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3244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Calibri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Calibri"/>
              </a:rPr>
              <a:t>+1 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Calibri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Calibri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duct"/>
          <p:cNvSpPr/>
          <p:nvPr/>
        </p:nvSpPr>
        <p:spPr>
          <a:xfrm>
            <a:off x="6934320" y="57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Calibri"/>
              </a:rPr>
              <a:t>Racks - Cisco R426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Title </a:t>
            </a:r>
            <a:r>
              <a:rPr b="0" lang="en-US" sz="2000" spc="-1" strike="noStrike">
                <a:solidFill>
                  <a:srgbClr val="eeece1"/>
                </a:solidFill>
                <a:latin typeface="Calibri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609480" y="1447920"/>
            <a:ext cx="777240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se Im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R42610_Front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Front +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R42610_Front_+_Doo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R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R42610_Rea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R42610 Rear + Do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R42610_Rear_+_Door.emf"/>
          <p:cNvPicPr/>
          <p:nvPr/>
        </p:nvPicPr>
        <p:blipFill>
          <a:blip r:embed="rId1"/>
          <a:stretch/>
        </p:blipFill>
        <p:spPr>
          <a:xfrm>
            <a:off x="3768840" y="1055520"/>
            <a:ext cx="160632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8:40:15Z</dcterms:created>
  <dc:creator>Brett Newman</dc:creator>
  <dc:description/>
  <dc:language>en-US</dc:language>
  <cp:lastModifiedBy>Gary Klapel</cp:lastModifiedBy>
  <dcterms:modified xsi:type="dcterms:W3CDTF">2011-03-17T17:42:16Z</dcterms:modified>
  <cp:revision>3</cp:revision>
  <dc:subject/>
  <dc:title>Title Slide</dc:title>
</cp:coreProperties>
</file>