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7840-A125-4779-A2A0-EC96C0CC9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59C5-252D-49D9-BFC2-FDDFFEA24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8212-9E72-49FF-8ADB-E3116B103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8AE-1742-4CD4-88E5-43791F3D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CE5-2BFE-4AF3-B24C-FDF67B9C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77A-DE91-4B4F-B89D-703BEFE0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C82-BC81-43D1-B284-27431422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A9F-12C4-4FE0-A0C4-7CF9910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456-FA16-48DC-8D07-214544C2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72B5-43A4-4CF3-A915-D5A5909B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C04-BD02-4729-ACE7-845CA32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1C8-386C-451E-A59B-C9072C2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F80-8298-4083-A6F3-353B12F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5AE-9E38-4496-8A36-7858A3EA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0D3-2C65-408C-AE7C-0CF9D0A2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BCF7-B212-468E-86F5-3F6FA185D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595b"/>
                </a:solidFill>
                <a:latin typeface="Arial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rial"/>
              </a:rPr>
              <a:t>Switches-Catalyst 4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Arial"/>
                <a:ea typeface="Arial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Arial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WS-C4948E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WS-C4948E-F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-F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WS-C4948E-F_Front.emf"/>
          <p:cNvPicPr/>
          <p:nvPr/>
        </p:nvPicPr>
        <p:blipFill>
          <a:blip r:embed="rId1"/>
          <a:stretch/>
        </p:blipFill>
        <p:spPr>
          <a:xfrm>
            <a:off x="4038480" y="358128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4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WS-X4904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08-10GE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WS-X4908-10GE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X4920-GB-RJ45 (=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WS-X4920-GB-RJ45_(=).emf"/>
          <p:cNvPicPr/>
          <p:nvPr/>
        </p:nvPicPr>
        <p:blipFill>
          <a:blip r:embed="rId1"/>
          <a:stretch/>
        </p:blipFill>
        <p:spPr>
          <a:xfrm>
            <a:off x="4356000" y="3556080"/>
            <a:ext cx="4320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isco_R42610_Front.emf"/>
          <p:cNvPicPr/>
          <p:nvPr/>
        </p:nvPicPr>
        <p:blipFill>
          <a:blip r:embed="rId1"/>
          <a:stretch/>
        </p:blipFill>
        <p:spPr>
          <a:xfrm>
            <a:off x="3895560" y="1430280"/>
            <a:ext cx="13528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9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-4948-10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S-4948-10GE.emf"/>
          <p:cNvPicPr/>
          <p:nvPr/>
        </p:nvPicPr>
        <p:blipFill>
          <a:blip r:embed="rId1"/>
          <a:stretch/>
        </p:blipFill>
        <p:spPr>
          <a:xfrm>
            <a:off x="4083120" y="3562200"/>
            <a:ext cx="977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WS-C4900M.emf"/>
          <p:cNvPicPr/>
          <p:nvPr/>
        </p:nvPicPr>
        <p:blipFill>
          <a:blip r:embed="rId1"/>
          <a:stretch/>
        </p:blipFill>
        <p:spPr>
          <a:xfrm>
            <a:off x="4084560" y="3510000"/>
            <a:ext cx="97488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S-C4900M (re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WS-C4900M_(rear).emf"/>
          <p:cNvPicPr/>
          <p:nvPr/>
        </p:nvPicPr>
        <p:blipFill>
          <a:blip r:embed="rId1"/>
          <a:stretch/>
        </p:blipFill>
        <p:spPr>
          <a:xfrm>
            <a:off x="4076640" y="3510000"/>
            <a:ext cx="9907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WS-C4948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WS-C4948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WS-C4948_Front.emf"/>
          <p:cNvPicPr/>
          <p:nvPr/>
        </p:nvPicPr>
        <p:blipFill>
          <a:blip r:embed="rId1"/>
          <a:stretch/>
        </p:blipFill>
        <p:spPr>
          <a:xfrm>
            <a:off x="4029120" y="353700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S-C4948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WS-C4948E_Rear.emf"/>
          <p:cNvPicPr/>
          <p:nvPr/>
        </p:nvPicPr>
        <p:blipFill>
          <a:blip r:embed="rId1"/>
          <a:stretch/>
        </p:blipFill>
        <p:spPr>
          <a:xfrm>
            <a:off x="4033800" y="3559320"/>
            <a:ext cx="1076400" cy="1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Brett Newman</cp:lastModifiedBy>
  <dcterms:modified xsi:type="dcterms:W3CDTF">2011-04-22T22:14:03Z</dcterms:modified>
  <cp:revision>5</cp:revision>
  <dc:subject/>
  <dc:title>Title Slide</dc:title>
</cp:coreProperties>
</file>